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5521-7E26-4F80-9DD5-698BCDC0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C992-FDA7-4CA5-A928-CDFC9ED6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07EB-7E98-45F2-8AF9-50478D3E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69DD-F631-4A95-A4E4-94A86859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299D-DA69-4481-A473-C98CD0D8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BEEF-1BAA-4CAE-A059-61FB9882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B40F-E26E-43C1-8A9C-EE97AF47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8B1C-EDD1-43C4-B7EE-025F04AE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5E7B-C7DE-42C6-997C-33E08F42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CC88-79DE-4903-A4AD-FBD8642B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A1FF-B10E-4C3C-815E-12F01400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A304-EEBE-4841-BE60-8792D64B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7B9F-C5CD-459D-96D2-AB231121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856F-82F8-413A-B9EA-77D9787F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F762-4A16-4687-96FD-B878B353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8A8B-36E5-4311-8CFB-1C7A55F8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08FF-5A7D-494A-A004-F9803A59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8AE8-C5A4-42E1-9193-F7A4111D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CA16-8D51-43CE-B7C3-EA952169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EF39-9FA0-429D-84BE-62376679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BC5E-71D4-4CEC-B2D0-CE36BB34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92FD-FE50-41D2-A8B4-178E1C77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5144-8FBD-4547-9FB7-B185283D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6620-46CC-42AE-8C0A-C0C13E1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0392-6CC0-46D3-8F04-1D0C448B1F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53A6-E3FA-48C6-BED1-581476163A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Reinforcing effort and providing recognition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hievement is proportional to effort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ers need to  help students believe they can ach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erage effect size .8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3962520" y="1905120"/>
          <a:ext cx="5784840" cy="386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905120"/>
                    <a:ext cx="57848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5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23:10Z</dcterms:created>
  <dc:creator>workstation</dc:creator>
  <dc:description/>
  <dc:language>en-US</dc:language>
  <cp:lastModifiedBy>workstation</cp:lastModifiedBy>
  <dcterms:modified xsi:type="dcterms:W3CDTF">2010-08-03T14:36:36Z</dcterms:modified>
  <cp:revision>2</cp:revision>
  <dc:subject/>
  <dc:title>Reinforcing effort and providing recognition</dc:title>
</cp:coreProperties>
</file>